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FB63-5D25-4B89-9633-4CCD36E16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33F4-5302-42A8-AD13-50EF88B0D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0255-BE2E-4AC8-A7EB-0B0AE5A1E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FE68-66C1-4875-A5DF-E74580AAF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ikispaces.psu.edu/display/Biology/The+Origins+and+Diversity+of+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CF73-63BD-4E63-A317-451CBC688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9559-7AF5-4E17-8464-E85EF025C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hschool.com/science/biology_place/biocoach/transcription/tcproc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704B-A6BB-41F5-BBD7-20349B2FF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4216-1C22-46E8-A36D-4987A62F2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okresource.org/tok_classes/biobiobio/biomenu/transcription_translation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F34B-34F2-4A6F-8E74-E5A3B193E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biology.kenyon.edu/courses/biol114/Chap05/Chapter05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0181-B6D3-4C8D-93B7-6C69A943E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DEFE-4C1F-4987-87E5-D9C1FE7F5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3DE9-580C-4BAB-8211-7F3D1F18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541F-13C4-4DB0-A4C3-BC05CF037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0CD7-0145-4DCD-9D9D-D02897BC2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77C2-EB91-4430-AE85-DE4D3CDE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4AE9-2190-43B2-84D8-91E9477D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CE66-E691-491D-BD46-E271EAAF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25BF-FFC5-4CE1-8660-52682C25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7CCF-CE0D-4C53-8D14-65BA1DC8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223F-4C2D-421A-B1A5-15D7580D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98CF-3C6D-4049-BD3E-467D6F71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8C38-6AAB-45AE-99F1-F60F1588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AB9B-E172-4182-A470-9571E8595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Gene to Protei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ntral Do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s the flow of information from DNA to RNA to prote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cri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DNA to 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mRNA to polypept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&amp; 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RNA_world"/>
          <p:cNvPicPr/>
          <p:nvPr/>
        </p:nvPicPr>
        <p:blipFill>
          <a:blip r:embed="rId1"/>
          <a:stretch/>
        </p:blipFill>
        <p:spPr>
          <a:xfrm>
            <a:off x="1511280" y="1981080"/>
            <a:ext cx="6121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ssenger RNA (m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er RNA (t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bosomal RNA (r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Tran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46748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NA polymerase creates mRNA molecule complementary to template strand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startrans"/>
          <p:cNvPicPr/>
          <p:nvPr/>
        </p:nvPicPr>
        <p:blipFill>
          <a:blip r:embed="rId1"/>
          <a:stretch/>
        </p:blipFill>
        <p:spPr>
          <a:xfrm>
            <a:off x="1401840" y="3352680"/>
            <a:ext cx="6186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bosome translates mRNA and assembles an amino acid chain using t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exp_human100"/>
          <p:cNvPicPr/>
          <p:nvPr/>
        </p:nvPicPr>
        <p:blipFill>
          <a:blip r:embed="rId1"/>
          <a:stretch/>
        </p:blipFill>
        <p:spPr>
          <a:xfrm>
            <a:off x="1643040" y="2895480"/>
            <a:ext cx="6010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transcription_2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code"/>
          <p:cNvPicPr/>
          <p:nvPr/>
        </p:nvPicPr>
        <p:blipFill>
          <a:blip r:embed="rId1"/>
          <a:stretch/>
        </p:blipFill>
        <p:spPr>
          <a:xfrm>
            <a:off x="1557360" y="1981080"/>
            <a:ext cx="602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Code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t co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p cod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23:49:34Z</dcterms:created>
  <dc:creator>rubina khan</dc:creator>
  <dc:description/>
  <dc:language>en-US</dc:language>
  <cp:lastModifiedBy>rubina khan</cp:lastModifiedBy>
  <dcterms:modified xsi:type="dcterms:W3CDTF">2015-11-12T20:11:36Z</dcterms:modified>
  <cp:revision>71</cp:revision>
  <dc:subject/>
  <dc:title>Molecular Genetics</dc:title>
</cp:coreProperties>
</file>